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F9B-F9BD-4DFD-9D48-DB03A903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564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D57-B2E0-41DE-B699-571B6C0A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C47-74D0-41EA-9B77-4AB4385E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805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805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56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56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56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E884-2860-48F5-A7A1-ABE056A9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2F0-6FE8-4008-B94A-18A5D0F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250-87D7-4714-8042-5C5891E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F79-7824-49A8-98BA-45C5A1BB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F4-D9CF-4619-BDF8-F82D7187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678-1387-450C-8F7C-F45F4A97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6B0-D080-4CA1-892F-802770BD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56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FDF-4005-4563-A735-69EC279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805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564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1A4-48D0-44CD-A59D-9A480B8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451B-F37A-4F77-A258-5BBB3B597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80" y="533520"/>
            <a:ext cx="9111600" cy="6006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Georgia"/>
              </a:rPr>
              <a:t>ACES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Standards Are Forever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Benefits To Adop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alershi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008680"/>
            <a:ext cx="9140760" cy="1828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0280" y="5084640"/>
            <a:ext cx="24102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BU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5099040"/>
            <a:ext cx="4572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s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od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s Disrup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6172200"/>
            <a:ext cx="4119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pplication mapping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28760" y="2666880"/>
            <a:ext cx="830556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92520" y="304920"/>
            <a:ext cx="559260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Lots of Choi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9480" y="1425600"/>
            <a:ext cx="5141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3 Results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Management 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UltimateGuide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494000" cy="1176480"/>
          </a:xfrm>
          <a:prstGeom prst="rect">
            <a:avLst/>
          </a:prstGeom>
          <a:ln w="0">
            <a:noFill/>
          </a:ln>
        </p:spPr>
      </p:pic>
      <p:pic>
        <p:nvPicPr>
          <p:cNvPr id="82" name="Illumaware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89064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21st" descr=""/>
          <p:cNvPicPr/>
          <p:nvPr/>
        </p:nvPicPr>
        <p:blipFill>
          <a:blip r:embed="rId3"/>
          <a:stretch/>
        </p:blipFill>
        <p:spPr>
          <a:xfrm>
            <a:off x="5549760" y="5181480"/>
            <a:ext cx="1384560" cy="1089000"/>
          </a:xfrm>
          <a:prstGeom prst="rect">
            <a:avLst/>
          </a:prstGeom>
          <a:ln w="0">
            <a:noFill/>
          </a:ln>
        </p:spPr>
      </p:pic>
      <p:pic>
        <p:nvPicPr>
          <p:cNvPr id="84" name="Autology" descr=""/>
          <p:cNvPicPr/>
          <p:nvPr/>
        </p:nvPicPr>
        <p:blipFill>
          <a:blip r:embed="rId4"/>
          <a:stretch/>
        </p:blipFill>
        <p:spPr>
          <a:xfrm>
            <a:off x="6896160" y="4191120"/>
            <a:ext cx="1562040" cy="1049040"/>
          </a:xfrm>
          <a:prstGeom prst="rect">
            <a:avLst/>
          </a:prstGeom>
          <a:ln w="0">
            <a:noFill/>
          </a:ln>
        </p:spPr>
      </p:pic>
      <p:pic>
        <p:nvPicPr>
          <p:cNvPr id="85" name="InnovativeLogic" descr=""/>
          <p:cNvPicPr/>
          <p:nvPr/>
        </p:nvPicPr>
        <p:blipFill>
          <a:blip r:embed="rId5"/>
          <a:stretch/>
        </p:blipFill>
        <p:spPr>
          <a:xfrm>
            <a:off x="3657600" y="2819520"/>
            <a:ext cx="1676520" cy="812520"/>
          </a:xfrm>
          <a:prstGeom prst="rect">
            <a:avLst/>
          </a:prstGeom>
          <a:ln w="0">
            <a:noFill/>
          </a:ln>
        </p:spPr>
      </p:pic>
      <p:pic>
        <p:nvPicPr>
          <p:cNvPr id="86" name="JNPSoft" descr=""/>
          <p:cNvPicPr/>
          <p:nvPr/>
        </p:nvPicPr>
        <p:blipFill>
          <a:blip r:embed="rId6"/>
          <a:stretch/>
        </p:blipFill>
        <p:spPr>
          <a:xfrm>
            <a:off x="5578560" y="3352680"/>
            <a:ext cx="2041560" cy="587520"/>
          </a:xfrm>
          <a:prstGeom prst="rect">
            <a:avLst/>
          </a:prstGeom>
          <a:ln w="0">
            <a:noFill/>
          </a:ln>
        </p:spPr>
      </p:pic>
      <p:pic>
        <p:nvPicPr>
          <p:cNvPr id="87" name="Solenium" descr=""/>
          <p:cNvPicPr/>
          <p:nvPr/>
        </p:nvPicPr>
        <p:blipFill>
          <a:blip r:embed="rId7"/>
          <a:stretch/>
        </p:blipFill>
        <p:spPr>
          <a:xfrm>
            <a:off x="3324240" y="5638680"/>
            <a:ext cx="1936800" cy="814680"/>
          </a:xfrm>
          <a:prstGeom prst="rect">
            <a:avLst/>
          </a:prstGeom>
          <a:ln w="0">
            <a:noFill/>
          </a:ln>
        </p:spPr>
      </p:pic>
      <p:pic>
        <p:nvPicPr>
          <p:cNvPr id="88" name="VerticalDev" descr=""/>
          <p:cNvPicPr/>
          <p:nvPr/>
        </p:nvPicPr>
        <p:blipFill>
          <a:blip r:embed="rId8"/>
          <a:stretch/>
        </p:blipFill>
        <p:spPr>
          <a:xfrm>
            <a:off x="1676520" y="4724280"/>
            <a:ext cx="1319040" cy="1346400"/>
          </a:xfrm>
          <a:prstGeom prst="rect">
            <a:avLst/>
          </a:prstGeom>
          <a:ln w="0">
            <a:noFill/>
          </a:ln>
        </p:spPr>
      </p:pic>
      <p:pic>
        <p:nvPicPr>
          <p:cNvPr id="89" name="WinsbyGroupLogo_small" descr=""/>
          <p:cNvPicPr/>
          <p:nvPr/>
        </p:nvPicPr>
        <p:blipFill>
          <a:blip r:embed="rId9"/>
          <a:stretch/>
        </p:blipFill>
        <p:spPr>
          <a:xfrm>
            <a:off x="1981080" y="3200400"/>
            <a:ext cx="12193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g_poker_main_solo" descr=""/>
          <p:cNvPicPr/>
          <p:nvPr/>
        </p:nvPicPr>
        <p:blipFill>
          <a:blip r:embed="rId1"/>
          <a:stretch/>
        </p:blipFill>
        <p:spPr>
          <a:xfrm>
            <a:off x="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9160" y="139680"/>
            <a:ext cx="7758000" cy="131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eorgia"/>
              </a:rPr>
              <a:t>ACES</a:t>
            </a:r>
            <a:r>
              <a:rPr b="0" lang="en-US" sz="8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Benef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1160" y="2495520"/>
            <a:ext cx="5029560" cy="39747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s Data Clea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Hole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d PM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um Duty / Vi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 (IPO, iSH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Channels (Amaz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16800" y="3048120"/>
            <a:ext cx="515664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eorgia"/>
              </a:rPr>
              <a:t>Thank you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8720" y="76320"/>
            <a:ext cx="784800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Barriers To Adop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opSign" descr=""/>
          <p:cNvPicPr/>
          <p:nvPr/>
        </p:nvPicPr>
        <p:blipFill>
          <a:blip r:embed="rId1"/>
          <a:stretch/>
        </p:blipFill>
        <p:spPr>
          <a:xfrm>
            <a:off x="5067360" y="2362320"/>
            <a:ext cx="3527280" cy="4228920"/>
          </a:xfrm>
          <a:prstGeom prst="rect">
            <a:avLst/>
          </a:prstGeom>
          <a:ln w="0">
            <a:noFill/>
          </a:ln>
        </p:spPr>
      </p:pic>
      <p:pic>
        <p:nvPicPr>
          <p:cNvPr id="44" name="elmer-fud" descr=""/>
          <p:cNvPicPr/>
          <p:nvPr/>
        </p:nvPicPr>
        <p:blipFill>
          <a:blip r:embed="rId2"/>
          <a:stretch/>
        </p:blipFill>
        <p:spPr>
          <a:xfrm>
            <a:off x="838080" y="1717560"/>
            <a:ext cx="3051360" cy="23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1066680"/>
            <a:ext cx="4038840" cy="205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Georgia"/>
              </a:rPr>
              <a:t>FUD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5040" y="4127400"/>
            <a:ext cx="3193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2120" indent="-22212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ertain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ream_movie_poster" descr=""/>
          <p:cNvPicPr/>
          <p:nvPr/>
        </p:nvPicPr>
        <p:blipFill>
          <a:blip r:embed="rId1"/>
          <a:stretch/>
        </p:blipFill>
        <p:spPr>
          <a:xfrm>
            <a:off x="0" y="762120"/>
            <a:ext cx="4457880" cy="61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7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Georgia"/>
              </a:rPr>
              <a:t>FEAR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8440" y="2455920"/>
            <a:ext cx="5006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nds Expens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Cdb Is No Goo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ll Lose Cover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24040" y="2425680"/>
            <a:ext cx="4668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pec Chang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One Takes 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Fine No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lancedrock" descr=""/>
          <p:cNvPicPr/>
          <p:nvPr/>
        </p:nvPicPr>
        <p:blipFill>
          <a:blip r:embed="rId1"/>
          <a:stretch/>
        </p:blipFill>
        <p:spPr>
          <a:xfrm>
            <a:off x="0" y="380880"/>
            <a:ext cx="4114800" cy="655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7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eorgia"/>
              </a:rPr>
              <a:t>UNCERTAIN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38480" y="2209680"/>
            <a:ext cx="50292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Too Bus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is Too H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’t We Put This Off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Is This Goo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20061104-172022_CeuseOverhang" descr=""/>
          <p:cNvPicPr/>
          <p:nvPr/>
        </p:nvPicPr>
        <p:blipFill>
          <a:blip r:embed="rId1"/>
          <a:stretch/>
        </p:blipFill>
        <p:spPr>
          <a:xfrm>
            <a:off x="0" y="1600200"/>
            <a:ext cx="380988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17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Georgia"/>
              </a:rPr>
              <a:t>DOUBT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nike-swoosh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228600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3048840" y="3962520"/>
            <a:ext cx="323028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ust do i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55920" y="4132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dneck_street_mechanic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51840" y="0"/>
            <a:ext cx="45057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DI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velop your ow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763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st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ltimate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mechanic_dealer_5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8560" y="5178600"/>
            <a:ext cx="31096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DIF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105520"/>
            <a:ext cx="45720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ast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ast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r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80" y="6210360"/>
            <a:ext cx="4472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utside mappin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389d9"/>
            </a:gs>
            <a:gs pos="100000">
              <a:srgbClr val="073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exus_lf_a_concept_2007_432_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029200"/>
            <a:ext cx="9140760" cy="18288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3760" indent="-2937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0280" y="5105520"/>
            <a:ext cx="24102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eorgia"/>
              </a:rPr>
              <a:t>BU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119560"/>
            <a:ext cx="4572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re Cos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od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rup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60" y="6210360"/>
            <a:ext cx="563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ull catalog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1:42:14Z</dcterms:created>
  <dc:creator>Doug Winsby</dc:creator>
  <dc:description/>
  <dc:language>en-US</dc:language>
  <cp:lastModifiedBy>Doug Winsby</cp:lastModifiedBy>
  <dcterms:modified xsi:type="dcterms:W3CDTF">2007-05-09T20:18:40Z</dcterms:modified>
  <cp:revision>184</cp:revision>
  <dc:subject/>
  <dc:title>NCMA 2007 ACES Update</dc:title>
</cp:coreProperties>
</file>