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jpeg" ContentType="image/jpeg"/>
  <Override PartName="/ppt/media/image13.jpeg" ContentType="image/jpeg"/>
  <Override PartName="/ppt/media/image5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30.wmf" ContentType="image/x-wmf"/>
  <Override PartName="/ppt/media/image8.png" ContentType="image/png"/>
  <Override PartName="/ppt/media/image33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3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32.wmf" ContentType="image/x-wmf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642-7473-4FA2-9655-51F9FE79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56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0AE-7C1E-477C-A6F4-FA0C0146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637-8934-4889-B973-2984782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FE4-962D-4550-ADAB-92F35FA2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625-4F56-4235-8376-974B816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B18-2E99-4E97-902C-19B26863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4CE-5CD2-42DF-A205-A13E575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D9C-91DA-47BF-91DD-4EE648F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099-C94D-450D-889A-D2942B4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578-AFF6-4D98-B3A0-5203C55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DDC-62CE-400D-81F4-D8D1644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850-5279-4932-819C-9ACB763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6FE8-ED24-4CF8-989B-3E54BED4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9960" y="533520"/>
            <a:ext cx="6747480" cy="417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Georgia"/>
              </a:rPr>
              <a:t>ACES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Boot Cam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oug Wins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insbyGroup_Reversed" descr=""/>
          <p:cNvPicPr/>
          <p:nvPr/>
        </p:nvPicPr>
        <p:blipFill>
          <a:blip r:embed="rId1"/>
          <a:stretch/>
        </p:blipFill>
        <p:spPr>
          <a:xfrm>
            <a:off x="6877080" y="5824440"/>
            <a:ext cx="2266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echanic_dealer_5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8560" y="5178600"/>
            <a:ext cx="31096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DIF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105520"/>
            <a:ext cx="45720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ast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a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r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80" y="6210360"/>
            <a:ext cx="4472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utside mapp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lexus_lf_a_concept_2007_432_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029200"/>
            <a:ext cx="914076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0280" y="5105520"/>
            <a:ext cx="24102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U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11956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re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d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rup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60" y="6210360"/>
            <a:ext cx="563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ull catalog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ealershi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008680"/>
            <a:ext cx="914076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280" y="5084640"/>
            <a:ext cx="24102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U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509904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s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d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s Disrup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172200"/>
            <a:ext cx="4119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pplication mapping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760" y="2666880"/>
            <a:ext cx="830556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2520" y="304920"/>
            <a:ext cx="55926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Lots of Choi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9480" y="1425600"/>
            <a:ext cx="5141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3 Result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Management 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UltimateGuide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494000" cy="1176480"/>
          </a:xfrm>
          <a:prstGeom prst="rect">
            <a:avLst/>
          </a:prstGeom>
          <a:ln w="0">
            <a:noFill/>
          </a:ln>
        </p:spPr>
      </p:pic>
      <p:pic>
        <p:nvPicPr>
          <p:cNvPr id="90" name="Illumaware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89064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21st" descr=""/>
          <p:cNvPicPr/>
          <p:nvPr/>
        </p:nvPicPr>
        <p:blipFill>
          <a:blip r:embed="rId3"/>
          <a:stretch/>
        </p:blipFill>
        <p:spPr>
          <a:xfrm>
            <a:off x="5549760" y="5181480"/>
            <a:ext cx="1384560" cy="1089000"/>
          </a:xfrm>
          <a:prstGeom prst="rect">
            <a:avLst/>
          </a:prstGeom>
          <a:ln w="0">
            <a:noFill/>
          </a:ln>
        </p:spPr>
      </p:pic>
      <p:pic>
        <p:nvPicPr>
          <p:cNvPr id="92" name="Autology" descr=""/>
          <p:cNvPicPr/>
          <p:nvPr/>
        </p:nvPicPr>
        <p:blipFill>
          <a:blip r:embed="rId4"/>
          <a:stretch/>
        </p:blipFill>
        <p:spPr>
          <a:xfrm>
            <a:off x="6896160" y="4191120"/>
            <a:ext cx="1562040" cy="1049040"/>
          </a:xfrm>
          <a:prstGeom prst="rect">
            <a:avLst/>
          </a:prstGeom>
          <a:ln w="0">
            <a:noFill/>
          </a:ln>
        </p:spPr>
      </p:pic>
      <p:pic>
        <p:nvPicPr>
          <p:cNvPr id="93" name="InnovativeLogic" descr=""/>
          <p:cNvPicPr/>
          <p:nvPr/>
        </p:nvPicPr>
        <p:blipFill>
          <a:blip r:embed="rId5"/>
          <a:stretch/>
        </p:blipFill>
        <p:spPr>
          <a:xfrm>
            <a:off x="3733920" y="2743200"/>
            <a:ext cx="1676160" cy="812880"/>
          </a:xfrm>
          <a:prstGeom prst="rect">
            <a:avLst/>
          </a:prstGeom>
          <a:ln w="0">
            <a:noFill/>
          </a:ln>
        </p:spPr>
      </p:pic>
      <p:pic>
        <p:nvPicPr>
          <p:cNvPr id="94" name="JNPSoft" descr=""/>
          <p:cNvPicPr/>
          <p:nvPr/>
        </p:nvPicPr>
        <p:blipFill>
          <a:blip r:embed="rId6"/>
          <a:stretch/>
        </p:blipFill>
        <p:spPr>
          <a:xfrm>
            <a:off x="5578560" y="3352680"/>
            <a:ext cx="2041560" cy="587520"/>
          </a:xfrm>
          <a:prstGeom prst="rect">
            <a:avLst/>
          </a:prstGeom>
          <a:ln w="0">
            <a:noFill/>
          </a:ln>
        </p:spPr>
      </p:pic>
      <p:pic>
        <p:nvPicPr>
          <p:cNvPr id="95" name="Solenium" descr=""/>
          <p:cNvPicPr/>
          <p:nvPr/>
        </p:nvPicPr>
        <p:blipFill>
          <a:blip r:embed="rId7"/>
          <a:stretch/>
        </p:blipFill>
        <p:spPr>
          <a:xfrm>
            <a:off x="3324240" y="5638680"/>
            <a:ext cx="1936800" cy="814680"/>
          </a:xfrm>
          <a:prstGeom prst="rect">
            <a:avLst/>
          </a:prstGeom>
          <a:ln w="0">
            <a:noFill/>
          </a:ln>
        </p:spPr>
      </p:pic>
      <p:pic>
        <p:nvPicPr>
          <p:cNvPr id="96" name="VerticalDev" descr=""/>
          <p:cNvPicPr/>
          <p:nvPr/>
        </p:nvPicPr>
        <p:blipFill>
          <a:blip r:embed="rId8"/>
          <a:stretch/>
        </p:blipFill>
        <p:spPr>
          <a:xfrm>
            <a:off x="1676520" y="4724280"/>
            <a:ext cx="1319040" cy="1346400"/>
          </a:xfrm>
          <a:prstGeom prst="rect">
            <a:avLst/>
          </a:prstGeom>
          <a:ln w="0">
            <a:noFill/>
          </a:ln>
        </p:spPr>
      </p:pic>
      <p:pic>
        <p:nvPicPr>
          <p:cNvPr id="97" name="WinsbyGroup_Positive" descr=""/>
          <p:cNvPicPr/>
          <p:nvPr/>
        </p:nvPicPr>
        <p:blipFill>
          <a:blip r:embed="rId9"/>
          <a:stretch/>
        </p:blipFill>
        <p:spPr>
          <a:xfrm>
            <a:off x="1600200" y="3352680"/>
            <a:ext cx="23256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Start With Good Data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oosing what to start with is maybe the most important decision you mak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ary catalog files are often the best choic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AIA Legacy files are exploded. Getting back to only the information that matters can be difficul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75360" y="4343400"/>
            <a:ext cx="1549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Single Data Sourc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single data source for both the printed catalog and the eCat fi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ill reduce costs and make Quality Assurance easi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9908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Use AAIA Legacy Data??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using AAIA legacy data as your source, make su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“in sync” with your paper catalog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y “Excepts” were translated properl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mappings were correct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information was droppe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Basic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&amp; end “Tags” delimit and identify dat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gs may have “attributes” (in our case, usually an “id” value from the VCdb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 tags can be &lt;tag&gt;&lt;/tag&gt; or &lt;tag/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matters (tags must match exactly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 are &lt;!-- text --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lt;Note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/AC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lt;/No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lt;BaseVehicle 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8559"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gt;1997 Catera&lt;/BaseVehic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lt;PartType 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4472"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/&gt;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&lt;!-- Headlight Switch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Terminology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3224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BaseVehicle id="8559"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7 Cater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BaseVehicle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048120"/>
            <a:ext cx="1752480" cy="0"/>
          </a:xfrm>
          <a:prstGeom prst="line">
            <a:avLst/>
          </a:prstGeom>
          <a:ln cap="sq"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124080"/>
            <a:ext cx="182880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809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XML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657600"/>
            <a:ext cx="2057400" cy="106668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657600"/>
            <a:ext cx="2209680" cy="0"/>
          </a:xfrm>
          <a:prstGeom prst="line">
            <a:avLst/>
          </a:prstGeom>
          <a:ln cap="sq"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ement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RESERVED SYMBOL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symbols may not be used in text and should be coded with “entity tags” as show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ty T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amp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lt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gt;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quo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f in attribute value)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6984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amp;apos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f in attribute valu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g_poker_main_solo" descr=""/>
          <p:cNvPicPr/>
          <p:nvPr/>
        </p:nvPicPr>
        <p:blipFill>
          <a:blip r:embed="rId1"/>
          <a:stretch/>
        </p:blipFill>
        <p:spPr>
          <a:xfrm>
            <a:off x="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39680"/>
            <a:ext cx="7758000" cy="131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eorgia"/>
              </a:rPr>
              <a:t>ACES</a:t>
            </a:r>
            <a:r>
              <a:rPr b="0" lang="en-US" sz="8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enef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1160" y="2495520"/>
            <a:ext cx="5029560" cy="39747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Data Clea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Hole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d PM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um Duty / Vi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 (IPO, iSH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Channels (Amaz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Free XML Validator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li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libxml (http://xmlsoft.org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Windows Binari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ww.zlatkovic.com/libxml.en.htm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ed xmllint.exe, libxml2.dll, iconv.dll, zlib1.dll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lint --schema aces.xsd --stream xx.xm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ove Excepts and logical OR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76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1. 4WD or Station Wagon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2. Exc. 4WD or Station Wagon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895480"/>
            <a:ext cx="8076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App id="1" ref="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DriveType id="2"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W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Drive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Part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Pa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Ap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App id="2" ref="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BodyType id="7"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tion Wag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Drive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Part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Pa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Ap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5080" y="5486400"/>
            <a:ext cx="255528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or” made two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1671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1. 4WD or Station Wagon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2. Exc. 4WD or Station Wagon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0481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App id="3" ref="2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!-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. 4W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DriveType id="1"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W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Drive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!-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. SW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BodyType id="15"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da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Body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Part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2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Pa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/Ap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410080"/>
            <a:ext cx="358128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Exc. A or B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Exc. A and Exc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ove Excepts and logical OR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roduction Ranges (Split Year)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plit year information in comme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separate &lt;Note&gt; tag and check conflict with BaseVehicle or &lt;Years&gt; ta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09880"/>
            <a:ext cx="8381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Ap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BaseVehicle id="1342"&gt;1990 Ford Taurus&lt;/BaseVehicl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Note&gt;From 5/1/92&lt;/Note&gt;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&lt;!--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WRONG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Ap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ultiple Part Column Issue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rt columns can introduce redundant informatio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pplicatio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pring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u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ation Wag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1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c. Station Wag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2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6483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dyType is redundant for the nut. Don’t include it when sending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X1”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ultiple Part Column Issue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ertain all qualifiers or notes apply to the part your are deliver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124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4973760"/>
                <a:tab algn="l" pos="6402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pplicatio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ype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otor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u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4973760"/>
                <a:tab algn="l" pos="6402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1981 Monte Carlo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ente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1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68520"/>
                <a:tab algn="l" pos="4973760"/>
                <a:tab algn="l" pos="6402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1980 Monte Carlo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li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2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79640" y="4572000"/>
            <a:ext cx="730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n’t inclu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tor Typ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ith the two Nu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ultiple Part Column Issue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redundancies due to Qualifiers in the part colum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1240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pplicatio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/AC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w/o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1990 Tauru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X1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10120"/>
                <a:tab algn="l" pos="559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9640" y="4572000"/>
            <a:ext cx="6933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 should not be included in a &lt;Note&gt; for the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</a:rPr>
              <a:t>on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“X1” application that is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Leave a Trail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“ref” attribute of the &lt;App&gt; tag to tie back to the source recor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your original source data in the Element Tex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"/>
          <p:cNvSpPr/>
          <p:nvPr/>
        </p:nvSpPr>
        <p:spPr>
          <a:xfrm>
            <a:off x="1208520" y="3860640"/>
            <a:ext cx="6106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App action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 id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21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 ref="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86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Years from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1991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 to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1996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6-91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Yea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Make id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22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dg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Ma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Model id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1372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ealth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Mode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PartType id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8852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per Blade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Pa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Position id="</a:t>
            </a:r>
            <a:r>
              <a:rPr b="0" lang="en-US" sz="2000" spc="-1" strike="noStrike">
                <a:solidFill>
                  <a:srgbClr val="ccccff"/>
                </a:solidFill>
                <a:latin typeface="Verdana"/>
              </a:rPr>
              <a:t>23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"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iver Sid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Posi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Part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Par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Qty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Q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&lt;/Ap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4648320"/>
            <a:ext cx="159084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080" y="3886200"/>
            <a:ext cx="2971800" cy="2666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Be Consisten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40040"/>
            <a:ext cx="7772400" cy="23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Enhanced Standard enforces a great deal of consistency through its use of I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Notes and MfrLabel, however require that you enforce your own consisten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638680" y="4038480"/>
          <a:ext cx="249084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4038480"/>
                    <a:ext cx="24908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Be Consisten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nly use approved Standard Abbreviatio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se proper case and punctuation within comments. (Don’t use all upper cas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89096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aLwAyS uSe PrOpEr c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8720" y="76320"/>
            <a:ext cx="78480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Barriers To Adop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opSign" descr=""/>
          <p:cNvPicPr/>
          <p:nvPr/>
        </p:nvPicPr>
        <p:blipFill>
          <a:blip r:embed="rId1"/>
          <a:stretch/>
        </p:blipFill>
        <p:spPr>
          <a:xfrm>
            <a:off x="5067360" y="2362320"/>
            <a:ext cx="3527280" cy="4228920"/>
          </a:xfrm>
          <a:prstGeom prst="rect">
            <a:avLst/>
          </a:prstGeom>
          <a:ln w="0">
            <a:noFill/>
          </a:ln>
        </p:spPr>
      </p:pic>
      <p:pic>
        <p:nvPicPr>
          <p:cNvPr id="50" name="elmer-fud" descr=""/>
          <p:cNvPicPr/>
          <p:nvPr/>
        </p:nvPicPr>
        <p:blipFill>
          <a:blip r:embed="rId2"/>
          <a:stretch/>
        </p:blipFill>
        <p:spPr>
          <a:xfrm>
            <a:off x="838080" y="1717560"/>
            <a:ext cx="3051360" cy="232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1066680"/>
            <a:ext cx="4038840" cy="205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FU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5040" y="4127400"/>
            <a:ext cx="3193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ertai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ontext-Fre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application must stand on its ow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is no guarantee that other applications will be display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3900600"/>
          <a:ext cx="70218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00600"/>
                    <a:ext cx="70218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95680" y="3897360"/>
          <a:ext cx="1219320" cy="19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897360"/>
                    <a:ext cx="12193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ranslate All Relevant Information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talogs sometimes represent information using Font Styl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represents OE Semi-Metallic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&lt;Note&gt;OE Semi-Metallic&lt;/Note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ranslate All Relevant Information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822960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163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location information in referenced diagrams or imag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33163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Exampl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33163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Application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Diagram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Par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163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1994 Mustang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Georgia"/>
              </a:rPr>
              <a:t>P1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2057400" cy="990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257800"/>
            <a:ext cx="0" cy="990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5257800"/>
            <a:ext cx="0" cy="990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791320"/>
            <a:ext cx="152388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715000"/>
            <a:ext cx="7632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17860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Position id="5"&gt;Front&lt;/Posi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715000"/>
            <a:ext cx="7596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38360" y="5880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0440" y="58928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eliver ONLY Relevant Information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1148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clude information that is necessary for proper part selec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3624120"/>
          <a:ext cx="289548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24120"/>
                    <a:ext cx="28954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Use Vehicle Attribut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all Vehicle Attributes with the proper I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tes only for information not covered by other tag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733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Verdana"/>
              </a:rPr>
              <a:t>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&lt;Note&gt;Exc. 4DR Sedan&lt;/No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Opposing Qualifier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7720" y="1752120"/>
            <a:ext cx="77724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deliver multiple records (for the same part type) that have the same part number but opposing note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lif.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1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c. Calif.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1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void Confusion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for two different part numbers (on a single Part Type) with no qualifier or the same qualifi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0 DODGE Daytona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hoc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/MT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1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/MT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wrong… maybe Position made the differenc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void Page Number Reference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Include notes that reference page numbers in a specific catalo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&lt;Note&gt;High performance also available, see back cover for listing of part numbers.&lt;/Note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, add the proper part number as another record and remove the no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 Part Numbers as they are displayed for pricing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include location, grade, footnote or other parenthetical information in the part tag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current status of part numbers BEFORE sending file to an e-cat company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ualifiers to for part references and always include these in their own applic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1600" y="380520"/>
            <a:ext cx="6816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Part Number Basics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05720" y="304920"/>
          <a:ext cx="19191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04920"/>
                    <a:ext cx="19191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Delivering Invalid Application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have valid catalog data that can’t be represented properly with IDs in the VCDB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provision in the specification for delivering these “invalid” applica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ition the Association for the inclusion of “missing” vehicle informatio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cream_movie_poster" descr=""/>
          <p:cNvPicPr/>
          <p:nvPr/>
        </p:nvPicPr>
        <p:blipFill>
          <a:blip r:embed="rId1"/>
          <a:stretch/>
        </p:blipFill>
        <p:spPr>
          <a:xfrm>
            <a:off x="0" y="762120"/>
            <a:ext cx="4457880" cy="61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FEAR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8440" y="2455920"/>
            <a:ext cx="5006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nds Expens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Cdb Is No Goo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ll Lose Cover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Except” Not Allowed with ID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2801"/>
              </a:spcAft>
              <a:buClr>
                <a:srgbClr val="ffffff"/>
              </a:buClr>
              <a:buFont typeface="Arial"/>
              <a:buChar char="•"/>
              <a:tabLst>
                <a:tab algn="l" pos="131760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Excepts in Notes, but not with Vehicle Attributes controlled by an ID in the VCdb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2801"/>
              </a:spcAft>
              <a:buClr>
                <a:srgbClr val="ffffff"/>
              </a:buClr>
              <a:buFont typeface="Arial"/>
              <a:buChar char="•"/>
              <a:tabLst>
                <a:tab algn="l" pos="131760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ust explode any Except logic to the “other” valid attribut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Translating “Except”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2002 Ford Taurus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agon …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1 (4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xc. Wagon …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2 (2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App action="A"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BaseVehicle id="815"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 Ford Taurus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BaseVehicl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BodyType id="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46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"&gt;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agon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BodyTyp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PartType id="245"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 Brake Pad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PartTyp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Qty&gt;4&lt;/Qty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Part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Part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App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App action="A"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BaseVehicle id="815"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 Ford Taurus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BaseVehicl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BodyType id="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34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"&gt;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dan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BodyTyp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PartType id="245"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 Brake Pad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PartType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Qty&gt;2&lt;/Qty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Part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2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Part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0160"/>
                <a:tab algn="l" pos="342252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&lt;/App&gt;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Exceptions to Excep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hicles before 1975 and vehicles with incomplete information (N/A or U/K values) can’t be translate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lude the Excepted Expression as a Note.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00" name="j0239195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874880" cy="1689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3520" y="5257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Note&gt;Exc. Wagon&lt;/Not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92880" y="1233360"/>
            <a:ext cx="5383800" cy="6433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Georgia"/>
              </a:rPr>
              <a:t>Qdb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Qualifier Table (Qdb)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36640"/>
            <a:ext cx="830592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parate Qualifier table is published for ACES 2.0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s terminolog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free-text qualifier express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ster selection of the correct part at the counter (less training, less experienc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ophisticated data management opportuniti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ed language transl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07" name="j0215287" descr=""/>
          <p:cNvPicPr/>
          <p:nvPr/>
        </p:nvPicPr>
        <p:blipFill>
          <a:blip r:embed="rId1"/>
          <a:stretch/>
        </p:blipFill>
        <p:spPr>
          <a:xfrm>
            <a:off x="6858000" y="4832280"/>
            <a:ext cx="21099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Qdb “Permanency”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Never Remove a Published Entr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Supersession Feature Instea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0" name="j0230580" descr=""/>
          <p:cNvPicPr/>
          <p:nvPr/>
        </p:nvPicPr>
        <p:blipFill>
          <a:blip r:embed="rId1"/>
          <a:stretch/>
        </p:blipFill>
        <p:spPr>
          <a:xfrm>
            <a:off x="6227640" y="4114800"/>
            <a:ext cx="2154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ffffff"/>
                </a:solidFill>
                <a:latin typeface="Trebuchet MS"/>
              </a:rPr>
              <a:t>Qdb Table Structur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920" y="1362240"/>
          <a:ext cx="8610480" cy="4954320"/>
        </p:xfrm>
        <a:graphic>
          <a:graphicData uri="http://schemas.openxmlformats.org/drawingml/2006/table">
            <a:tbl>
              <a:tblPr/>
              <a:tblGrid>
                <a:gridCol w="1957320"/>
                <a:gridCol w="1515960"/>
                <a:gridCol w="51372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i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ier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qualifier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ierTyp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s usage (“Normal”, “OE Only” and “Installation Instruction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ssistance in selecting the correct qualifier and is especially helpful for qualifiers that have para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Qualifi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supersede one qualifier to another. Qualifiers with a NewQID should not be used on new applic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Mod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dded or last 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Parameter Typ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1523880"/>
            <a:ext cx="4572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so0190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1371600"/>
            <a:ext cx="4611960" cy="49528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Fourteen” Rul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 rot="20365800">
            <a:off x="231840" y="14522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itl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561200">
            <a:off x="151560" y="5943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819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nly approved abbre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0775600">
            <a:off x="989280" y="358092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mbedded VCdb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47080" y="19810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E terminology for vehicl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5960" y="461952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ANDed "compound"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7680" y="522936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ORed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536600">
            <a:off x="7086600" y="19810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520" y="327672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Par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3840" y="1295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't over us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1168000">
            <a:off x="3426840" y="601992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over use of optional pl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0" y="525780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use of quoted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55400">
            <a:off x="4872960" y="41958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ll quantities less than 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98440" y="259092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pecial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24040" y="2425680"/>
            <a:ext cx="4668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pec Chang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One Takes 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Fine No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lancedrock" descr=""/>
          <p:cNvPicPr/>
          <p:nvPr/>
        </p:nvPicPr>
        <p:blipFill>
          <a:blip r:embed="rId1"/>
          <a:stretch/>
        </p:blipFill>
        <p:spPr>
          <a:xfrm>
            <a:off x="0" y="380880"/>
            <a:ext cx="411480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eorgia"/>
              </a:rPr>
              <a:t>UNCERTAIN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Delivery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7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or more “Qual” tag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Qual id="123"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text&gt;With Air Conditioning&lt;/text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/Qual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ences primary key in Qualifier Tabl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Qualifiers are interpreted as A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lement text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g instead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Qual &lt;text&gt; elemen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n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anded qualifier expr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in &lt;text&gt; tag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Qual id="123"&gt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&lt;text&gt;With Air Conditioning&lt;/text&gt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/Qual&gt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just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Qual id="123"/&gt;  O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Qual id="123"&gt;With Air Conditioning&lt;/Qual&gt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Delivery (cont.)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Qual id="321“&gt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param value="10/1/05"/&gt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text&gt;From 10/1/05&lt;/text&gt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/Qual&gt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a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ences placeholder in Qdb express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21: From &lt;p1 type="date"/&gt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must match type defined in Qdb express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ext&gt; contains fully expanded qualifie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ml Delivery (cont.)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App action="A" id="1"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BaseVehicle id="1193"&gt;2000 BMW Z3&lt;/BaseVehicle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SubModel id="86"&gt;Roadster&lt;/SubModel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Qual id="12921"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text&gt;with Air Conditioning&lt;/text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/Qual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Qual id="3234"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param value="5/15/2000"/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text&gt;From 5/15/2000&lt;/tex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&lt;/Qual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Qty&gt;1&lt;/Qty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PartType id="1792"&gt;Brake Hydraulic Hose&lt;/PartType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Position id="22"&gt;Front&lt;/Position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Part&gt;BHH1&lt;/Part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/App&gt;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Decimal vs. Fractional valu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“num”, “size” and “weight” parameter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hat you want displayed. Mixed fractions must use: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#-#/#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Fractional Valu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4703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3: &lt;p1 type="num"/&gt; Turns Lock to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Qual id="123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param value="2-1/2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text&gt;2-1/2 Turns Lock to Lock&lt;/text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/Qu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Unit Of Measur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independent from dat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tribute Neede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Qual id="32"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param value="8.5"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om="in"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text&gt;8.5" Diameter Bar&lt;/text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/Qual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lternate UOM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u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ttributes for “num” “size”, and “weight” parameter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db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th &lt;p1 type="size"/&gt; Diameter Alternator Cas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xml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lt;param value="4-3/4" uom="in“ altvalue="120" altuom="mm"/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lt;text&gt;4-3/4" (120mm) Diameter Alternator Case&lt;/text&gt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What are Notes for Now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61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ed attributes on vehicles where the attributes are not researched or are unknow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Note&gt;Exc. Wagon&lt;/Note&gt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Invalid” Application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ing applications “considered correct” but not valid in VehicleTo t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ways provided in 2.0: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657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81080" indent="-514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de normally, but ad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alidate="no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514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t it in the Note tag with free-form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 Petition for change to VC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38480" y="2209680"/>
            <a:ext cx="50292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Too Bus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Too H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’t We Put This Off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Is This Goo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20061104-172022_CeuseOverhang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DOUBT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Invalid” Application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1420920"/>
            <a:ext cx="685800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App Action="A" id="1"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validate="no"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BaseVehicle id="664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&lt;TransmissionControlType id="6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Qty&gt;1&lt;/Qt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PartType id="111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Part&gt;P1&lt;/Par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/Ap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App Action="A" id="1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BaseVehicle id="664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&lt;Note&gt;Standard Transmission&lt;/No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Qty&gt;1&lt;/Qt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PartType id="111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Part&gt;P1&lt;/Par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/Ap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tart with good dat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packaged solution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tch out for common trap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e an audit trai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se Qualifier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173320" cy="2031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324480" y="2209680"/>
            <a:ext cx="2286000" cy="1447920"/>
          </a:xfrm>
          <a:prstGeom prst="cloudCallout">
            <a:avLst>
              <a:gd name="adj1" fmla="val -6250"/>
              <a:gd name="adj2" fmla="val 8366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16800" y="3048120"/>
            <a:ext cx="515664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eorgia"/>
              </a:rPr>
              <a:t>Thank you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ike-swoosh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28600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3048840" y="3962520"/>
            <a:ext cx="323028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ust do i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55920" y="413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4800" y="228600"/>
            <a:ext cx="6058800" cy="192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Implemen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Option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hoices2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226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dneck_street_mechani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51840" y="0"/>
            <a:ext cx="45057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DI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velop your ow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76320"/>
            <a:ext cx="457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C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ltimat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1:42:14Z</dcterms:created>
  <dc:creator>Doug Winsby</dc:creator>
  <dc:description/>
  <dc:language>en-US</dc:language>
  <cp:lastModifiedBy>Doug Winsby</cp:lastModifiedBy>
  <dcterms:modified xsi:type="dcterms:W3CDTF">2008-05-02T21:29:25Z</dcterms:modified>
  <cp:revision>233</cp:revision>
  <dc:subject/>
  <dc:title>NCMA 2007 ACES Update</dc:title>
</cp:coreProperties>
</file>